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976-4B3E-4476-9E89-EC3420B6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647-0F6E-46C1-94C9-B224EA9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8FB-FC6E-4944-A2E3-3175E086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2ED-2493-49B9-BADC-0B83DBB3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CBF-6414-4110-B2B8-B9EA11EA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D49-F61B-4845-8748-BD666ED4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6AD7-2DDC-441A-AC28-9E84B7D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A05E-D4A3-45B2-BBB4-43E9FD4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EA26-6BC3-4875-980F-C23CAE11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709-6ECD-4ACF-8BBF-FD28BD5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B21A-3211-41F6-B4E0-20D9853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A7B-57BD-41CA-A997-48B78C58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9A7B-C81B-4E4D-B74A-09C112F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A433-B1D0-4797-8AE3-870D57C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FA3B-E5C5-4CDB-98EC-7A68AEA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4B8F-DBB0-45CB-AC42-32451A31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D7D-5142-4C3D-87AC-61ABD1FD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F5BB-AFCA-4D1F-BB51-663CCCEA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763C-4E3F-4168-A426-1597110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CDF8-4A65-42E1-9CC5-8823875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905B-6504-428E-A202-888F4D4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5C01-1737-47C4-A0F5-18F60650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806-6BA3-4640-87A6-91C22D4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F9D2-35A0-437B-96F6-923AFEA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48E8-5BFF-42BD-9DBE-98B1572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5AD3-E581-4A08-B20F-39E50CD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1BDA-B2F8-48EB-9B90-B4E23AB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6E79-DD22-4436-B636-C41B0CAE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8F9B-44F0-462E-A07C-808B59D8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05E2-4851-4F42-8C02-3A278FA9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E4EC-789F-45BA-B928-EC2C3A86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2169-DE11-4380-9166-438A5AE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3979-6960-43CC-9F1E-A3A7A3F0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B13-380B-44CE-A8D7-184F409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C04E-855B-4AC7-A2F4-D50BACF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7A57-1AD7-4F23-A8CE-FCACDDF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EBF9-6C14-49B4-9D52-860B751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796A-4D46-4C52-A8AA-4659A32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696A-DD7A-435A-9A39-CC13156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2304-0146-4D4B-A160-215D780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D5FF-DFA5-4973-ABAA-D0C7D60E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226B-6D8B-4D04-8514-0DD10471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48FC5-5707-45CB-940F-060D158E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D70-7009-40F2-8E7A-C50A853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6FD-AF9C-46FA-BC5E-3BEA965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C1E-642E-4820-B1E0-09358CE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B0B-A791-44BE-A04B-9E88C23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8A5-A9F3-49B4-A262-520D7F6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6D3E-142C-4933-B526-35A10683A0A2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E17-6BE7-4B78-80DD-619D26785C45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7B5-3325-4702-A66A-85B21ED4867D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9B2-56BA-4955-8E3C-168559DF4BEE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epnet.com/" TargetMode="External"/><Relationship Id="rId2" Type="http://schemas.openxmlformats.org/officeDocument/2006/relationships/hyperlink" Target="http://search.epne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ím 1" descr=""/>
          <p:cNvPicPr/>
          <p:nvPr/>
        </p:nvPicPr>
        <p:blipFill>
          <a:blip r:embed="rId1"/>
          <a:stretch/>
        </p:blipFill>
        <p:spPr>
          <a:xfrm>
            <a:off x="244440" y="1371600"/>
            <a:ext cx="871704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Constantia"/>
              </a:rPr>
              <a:t>Őssejtterápia a gyermekgyógyászatb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inomítások ellenére sem sikerült konkrétan a gyermekgyógyászattal foglalkozó őssejt terápiai forrásra akadn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onstantia"/>
              </a:rPr>
              <a:t>Ezért ismét módosítottam a keresési feltételeke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Title” mezőbe: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stem cell therap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Topic” mezőbe: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pediatr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Őssejtterápiával foglalkozó forrásokra vagyok kíváncsi, gyermekgyógyászat területé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Ennek megfelelően már csak 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36 db találatot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Tovább finomítottam a találati halmaz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58920" y="3213000"/>
          <a:ext cx="6885000" cy="3292560"/>
        </p:xfrm>
        <a:graphic>
          <a:graphicData uri="http://schemas.openxmlformats.org/drawingml/2006/table">
            <a:tbl>
              <a:tblPr/>
              <a:tblGrid>
                <a:gridCol w="2295360"/>
                <a:gridCol w="2295720"/>
                <a:gridCol w="2293920"/>
              </a:tblGrid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aearch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utatási területe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diat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gyermekgyógyász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blication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iadás é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0-20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Nyelve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ang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onstantia"/>
              </a:rPr>
              <a:t>Ezek az eddigi legpontosabb eredmények ebben az adatbázisb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Zama, Daniele; Masetti, Riccardo; Vendemini, Francesca; et al.: Clinical effectiveness of early treatment with hyperbaric oxygen therapy for severe late-onset hemorrhagic cystitis after hematopoietic stem cell transplantation in pediatric patients. In: PEDIATRIC TRANSPLANTATION, 17. (2013), 1.sz. 86-91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111/petr.1203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Pham, Huy P.; Rogoza, Kim; Stotler, Brie; et al.: Granulocyte Transfusion Therapy in Pediatric Patients After Hematopoietic Stem Cell Transplantation: A 5-Year Single Tertiary Care Center Experience. In: JOURNAL OF PEDIATRIC HEMATOLOGY ONCOLOGY, 34. (2012) 8.sz. E332-E336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97/MPH.0b013e3182580d4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Bernstein, Harold S.; Srivastava, Deepak: Stem cell therapy for cardiac disease. In: PEDIATRIC RESEARCH, 71. (2012) 4.sz. 491-499.sz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38/pr.2011.6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Monnereau-Laborde, Sylvie; Munzer, Caroline; Valteau-Couanet, Dominique; et al.: A Dose-Intensive Approach (NB96) for Induction Therapy Utilizing Sequential High-Dose Chemotherapy and Stem Cell Rescue in High-Risk Neuroblastoma in Children Over 1 Year of Age . In: PEDIATRIC BLOOD &amp; CANCER, 57. (2011) 6.sz. 965-971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02/pbc.2323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(http://www.sciencedirect.com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Science Direc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„Search”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menüjét kiválasztva van lehetőség keresés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38040" y="3429000"/>
            <a:ext cx="8591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nnek eredményekén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9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bben az adatbázisban is van lehetőség további szűrésre a bal oldal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Tovább finomítottam a találati halmaz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332000" y="4005360"/>
          <a:ext cx="6669000" cy="2338200"/>
        </p:xfrm>
        <a:graphic>
          <a:graphicData uri="http://schemas.openxmlformats.org/drawingml/2006/table">
            <a:tbl>
              <a:tblPr/>
              <a:tblGrid>
                <a:gridCol w="2222280"/>
                <a:gridCol w="2222640"/>
                <a:gridCol w="222408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te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tartalom típ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u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folyóir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té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ősse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onstantia"/>
              </a:rPr>
              <a:t>A találati halmaz már megfelel az olvasó igényeinek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Karen Young, Joshua M. Hare: Stem cells in cardiopulmonary development: Implications for novel approaches to therapy for pediatric cardiopulmonary disease. In: Progress in Pediatric Cardiology, 25. (2008) 1.sz. 37-49.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Erik G. Pearson, Alan W. Flake: Stem cell and genetic therapies for the fetus. In: Seminars in Pediatric Surgery, 22. (2013) 1.sz. 56-61.p.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ábbi mezőbe beírva a keresőkérdést összesen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47 talála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jelenik me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8547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bben az adatbázisban is van lehetőség további szűrésre a bal oldal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3284640"/>
          <a:ext cx="6740280" cy="3224160"/>
        </p:xfrm>
        <a:graphic>
          <a:graphicData uri="http://schemas.openxmlformats.org/drawingml/2006/table">
            <a:tbl>
              <a:tblPr/>
              <a:tblGrid>
                <a:gridCol w="2246400"/>
                <a:gridCol w="2247840"/>
                <a:gridCol w="224604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adás dát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8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ljes szö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sak a full-textes tartalmak jelennek m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árgykö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s - transpla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Constantia"/>
              </a:rPr>
              <a:t>A találati halmaz már megfelel az olvasó igényeinek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Malär, Reta; Sjöö, Fredrik; Rentsch, Katharina; Hassan, Moustapha; Güngör, Tayfun: Therapeutic drug monitoring is essential for intravenous busulfan therapy in pediatric hematopoietic stem cell recipients. In:  Pediatric Transplantation, 15. (2011) 6.sz. 580-588.p. </a:t>
            </a:r>
            <a:br>
              <a:rPr sz="2200"/>
            </a:b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DOI: 10.1111/j.1399-3046.2011.01529.x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Flores, Francisco X.; Brophy, Patrick D.; Symons, Jordan M;  et. al.: Continuous renal replacement therapy (CRRT) after stem cell transplantation. A report from the prospective pediatric CRRT Registry Group. In: Pediatric Nephrology, 23. (2008) 4.p. 625-630.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asonlítsa össze a talált külföldi és magyar szakirodalmat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szakirodalom gyűjtése ennél az olvasónál elhanyagolható, mivel ázsiai diák prezentációjára szeretné felhasználni az összegyűjtött irodalmat. Ezért csak az angol szakirodalom jöhet szób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Felad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eladat szerint egy ázsiai diák számára kell bibliográfiát összeállítani „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őssejtterápia gyermekgyógyászatban történő alkalmazásának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” szakirodalmáró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Mivel a hallgató külföldi így a legjobb választás az angol nyelvű szakirodalom összegyűjtése les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eladat másik részében arról kell tájékoztatást adnom, hogy szakirodalom mekkora hányada érhető el Magyarországon, mely könyvtárakba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ési feladat megvalósítását az interneten elérhető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(Pécsi Tudományegyetem által előfizetett) 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datbázisok használatával oldom m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4617b"/>
                </a:solidFill>
                <a:latin typeface="Calibri"/>
              </a:rPr>
              <a:t>Hogyan állapítja meg, hogy melyek a találatok közül Magyarországon</a:t>
            </a:r>
            <a:r>
              <a:rPr b="0" i="1" lang="hu-HU" sz="2800" spc="-1" strike="noStrike">
                <a:solidFill>
                  <a:srgbClr val="04617b"/>
                </a:solidFill>
                <a:latin typeface="Calibri"/>
              </a:rPr>
              <a:t> (nyomtatásban vagy elektronikusan) </a:t>
            </a:r>
            <a:r>
              <a:rPr b="0" lang="hu-HU" sz="2800" spc="-1" strike="noStrike">
                <a:solidFill>
                  <a:srgbClr val="04617b"/>
                </a:solidFill>
                <a:latin typeface="Calibri"/>
              </a:rPr>
              <a:t>hozzáférhető források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Magyarországon elérhető elektronikus forrás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Ez intézményenként változó, annak függvényében, hogy az adott intézmény mely folyóiratokat fizeti elő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ddig tárgyalt kereső adatbázisok mindegyike jelzi minden találatnál, a cikkhez való hozzáférhetőségének fokát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bsztrakt vagy full-tex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4617b"/>
                </a:solidFill>
                <a:latin typeface="Calibri"/>
              </a:rPr>
              <a:t>Értékelje a munkáját! Mi a véleménye a keresés eredményéről?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Jelen feladatban a </a:t>
            </a:r>
            <a:r>
              <a:rPr b="1" i="1" lang="hu-HU" sz="2400" spc="-1" strike="noStrike">
                <a:solidFill>
                  <a:srgbClr val="000000"/>
                </a:solidFill>
                <a:latin typeface="Constantia"/>
              </a:rPr>
              <a:t>PubMed, a Web of Science, Science Direct és az EBSCO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 adatbázisaiban kerestem rá az adott témá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Nagyon fontos, hogy a keresőkérdés kiadásakor tömör, lényegre törő kulcsszavakat alkossunk. A túl sok kulcsszó nem hoz megfelelő eredményt. Elég néhány kulcsszót beírni a keresőbe illetve a többi kulcsszót egy másik mezővel összekapcsolva sokkal pontosabb találati halmazt kapunk. Ezen felül mindegyik keresőben volt lehetőség további szűrésekre, finomításokra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(nyelv, témakör, dokumentum típus, kiadás időszaka, kutatási terület, téma stb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Mindent egybevetve néhány, a keresendő témát leginkább kifejező kulcsszó pontos találati eredményt 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öszönöm a figyelmet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nformációforrá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ubMed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ncbi.nlm.nih.gov/pubm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WEB of Science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http://apps.webofknowledge.com/WOS_GeneralSearch_input.do?product=WOS&amp;search_mode=GeneralSearch&amp;SID=Q1A1mcGg7GLgApKjIGm&amp;preferencesSaved=&amp;highlighted_tab=W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Science Direct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http://www.sciencedirec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EBSCO adatbázis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hu-H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search.epne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i szempontok, kulcsszava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 feladat úgy kívánja, hogy a bibliográfiát ázsiai diák részére kell elkészíteni. Így a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keresőkérdést angol nyelvre fordítottam le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őssejtterápia gyermekgyógyászatban = stem cell therapy in pediatric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Constantia"/>
              </a:rPr>
              <a:t>Mindezek után meghatároztam a keresési szempontokat, kulcsszavaka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stem cell therapy in pediatrics </a:t>
            </a:r>
            <a:r>
              <a:rPr b="1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Ezeket a kulcsszavakat lehet használni együttesen vagy külö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VA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stem cell therapy in pediatrics”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Ez azt jelenti általában, hogy ez a keresőkérdés szó szerint így szerepel pl. a  címben. Semmilyen karakter nem szerepel közöt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eresés PubMed adatbázisban</a:t>
            </a:r>
            <a:br>
              <a:rPr sz="1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sőként a PubMed (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ttp://www.ncbi.nlm.nih.gov/pubmed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resőben próbálkoztam a keresésse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ábbi mezőbe beírtam a keresőkérdést, ami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2723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eredményezet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611280" y="4741920"/>
            <a:ext cx="8064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PubMed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onlap bal oldalán van lehetőség szűrésre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pl. „Publication dates” („publikációs dátum”) szeri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Itt leszűkítettem a találati halmazt az utóbbi 5 év termésére. Így alig több, min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1000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jd „Human” kategóriára való szűkítéss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865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további szűrési kategóriák haszontalanok a jelenlegi feladat szempontjábó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WOS keresőjében először a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„Topic”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szerint próbáltam rákeresne az adott témá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39640" y="2870280"/>
            <a:ext cx="799308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Itt csak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116 db találatot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kaptam. Volt jó néhány olyan találat amiben a keresőkérdésnek csak 1-1 szava szerepelt. Így az ilyen találatok kissé távol estek a keresett tartalmaktó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A következő keresésénél a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„Topic”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mezőbe </a:t>
            </a:r>
            <a:r>
              <a:rPr b="0" i="1" lang="hu-HU" sz="2800" spc="-1" strike="noStrike">
                <a:solidFill>
                  <a:srgbClr val="000000"/>
                </a:solidFill>
                <a:latin typeface="Constantia"/>
              </a:rPr>
              <a:t>"stem cell therapy"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keresőkérdést írtam idézőjelekkel. A találatok mindegyikében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(2425 db)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egy az egyben szerepelt a fenti keresőkérdés. Tehát mindhárom szó szerepel egyszerre, egymás után ami az idézőjelek között olvashat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találati oldal bal szélén van lehetőség finomítani a találatok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Én a következő finomításokat végeztem 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3429000"/>
          <a:ext cx="7174080" cy="2948040"/>
        </p:xfrm>
        <a:graphic>
          <a:graphicData uri="http://schemas.openxmlformats.org/drawingml/2006/table">
            <a:tbl>
              <a:tblPr/>
              <a:tblGrid>
                <a:gridCol w="2390760"/>
                <a:gridCol w="2392560"/>
                <a:gridCol w="239076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dokumentum típu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cik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blication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iadás é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1,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6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ngu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Nyelve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ang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2:10:44Z</dcterms:created>
  <dc:creator>Hallgató</dc:creator>
  <dc:description/>
  <dc:language>en-US</dc:language>
  <cp:lastModifiedBy>Hallgató</cp:lastModifiedBy>
  <dcterms:modified xsi:type="dcterms:W3CDTF">2013-05-09T12:56:20Z</dcterms:modified>
  <cp:revision>11</cp:revision>
  <dc:subject/>
  <dc:title>Orvosi és egészségtudományi tájékoztatás</dc:title>
</cp:coreProperties>
</file>